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687E-0A60-4734-BA82-22CD25251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6FDD-C843-44E4-A080-29E77239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7B07-9229-486B-B7B0-56D21D7AD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4053-CF20-4492-AB2C-74B748FE2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0CA5-B880-4BBF-8B88-F23637EDF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F994-F554-410A-9B92-A730403E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B9230-DF71-40EE-A7D9-2831E402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1459-7215-4CBE-BA75-82D9C6F2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F591-78B6-4919-A382-9FBAFD45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E07F-5A8B-481C-8A81-05C21E43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5536-D68D-4BC2-947A-D85B79B3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5424-4EC6-4C1E-AEBB-ECF111C1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73BB-F0F7-4882-9E05-44F78662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013D-42D0-4D8B-B1CE-D48066B6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FDF0-872E-4C7A-A85C-A209A84C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00A6-07D2-41A9-8912-E7C109A04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EB31-822C-46E5-B6B9-8342FC65E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2D4F-FF00-4583-A5B7-F420C8C2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3D9F-4F22-4B75-9E26-9DF618DC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9D0A-33F2-4BF2-95B4-6FC899A8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96D2-9373-4563-8AA4-F10BB8B0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0875-0204-4D05-AD66-0E6CDC35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9D43-BBE5-44A5-B959-E4E8F4D9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F018-0D04-46BD-B17E-462CD9B7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651E-8122-4B8A-BAC9-1501EEE5562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D9FD-EA8C-43B5-BE63-BF3AD789283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krugosvet.ru/" TargetMode="External"/><Relationship Id="rId2" Type="http://schemas.openxmlformats.org/officeDocument/2006/relationships/hyperlink" Target="http://ru.wikipedia.org/" TargetMode="External"/><Relationship Id="rId3" Type="http://schemas.openxmlformats.org/officeDocument/2006/relationships/hyperlink" Target="http://www.traktat.com/" TargetMode="External"/><Relationship Id="rId4" Type="http://schemas.openxmlformats.org/officeDocument/2006/relationships/hyperlink" Target="http://ru.science.wikia.com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2547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Engravers MT"/>
              </a:rPr>
              <a:t>СЛОЖНОЕ  ПРЕДЛОЖЕНИЕ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Engravers MT"/>
              </a:rPr>
              <a:t>Выполнила Николаева Юл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Engravers MT"/>
              </a:rPr>
              <a:t>учащаяся 9 «а» класс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Engravers MT"/>
              </a:rPr>
              <a:t>Школы № </a:t>
            </a:r>
            <a:r>
              <a:rPr b="1" i="1" lang="en-US" sz="2800" spc="-1" strike="noStrike">
                <a:solidFill>
                  <a:srgbClr val="000000"/>
                </a:solidFill>
                <a:latin typeface="Engravers MT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870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Первое предложение (Он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опоздали из-за сильного дождя) является простым предложением. Второе (Они опоздали, потому что шел сильный дождь)– сложноподчиненным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Быть грамотным – это нелегкая задача. Для этого нужно владеть большим объемом информации (правила, орфограммы, словарные слова, исключения)…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4360" y="40464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stellar"/>
              </a:rPr>
              <a:t>ВИДЫ  СЛОЖНЫХ  ПРЕДЛОЖЕНИЙ (СХЕМА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907920"/>
            <a:ext cx="7416720" cy="115272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stellar"/>
              </a:rPr>
              <a:t>СЛОЖНЫЕ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2565360"/>
            <a:ext cx="4824360" cy="1150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stellar"/>
              </a:rPr>
              <a:t>СОЮ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51640" y="2565360"/>
            <a:ext cx="2089080" cy="1150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stellar"/>
              </a:rPr>
              <a:t>БЕССОЮ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4365720"/>
            <a:ext cx="2735280" cy="93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stellar"/>
              </a:rPr>
              <a:t>СЛОЖНОСОЧИН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48000" y="4365720"/>
            <a:ext cx="2808360" cy="93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stellar"/>
              </a:rPr>
              <a:t>СЛОЖНОПОДЧИН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1672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63640" y="3716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56000" y="3716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stellar"/>
              </a:rPr>
              <a:t>Немного о ССП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02920" y="1557000"/>
            <a:ext cx="698364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Сложносочиненные предложения   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такие предложения, в которых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простые предложения могут бы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равноправными по смыслу 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связываются сочинительным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союзами ( и, а, но, однако, зато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или …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stellar"/>
              </a:rPr>
              <a:t>Немного о СПП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58920" y="1628280"/>
            <a:ext cx="727056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Сложноподчиненное предложение –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это сложное предложение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состоящее из двух (или более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частей, одна из которых подчинен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другой и связывается с ней пр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помощи подчинительного союз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или союзного слов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870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stellar"/>
              </a:rPr>
              <a:t>Немного о БСП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99640" y="1916280"/>
            <a:ext cx="769644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Бессоюзные сложные предложения –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это предложения, состоящие из дву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или более частей, связанных межд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собой по смыслу, интонационно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порядком расположения частей и т.д.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но без союз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stellar"/>
              </a:rPr>
              <a:t>РЕСУРСЫ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stel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stellar"/>
              </a:rPr>
              <a:t>Сайты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600" spc="-1" strike="noStrike" u="sng">
                <a:solidFill>
                  <a:srgbClr val="00b200"/>
                </a:solidFill>
                <a:uFillTx/>
                <a:latin typeface="Castellar"/>
                <a:hlinkClick r:id="rId1"/>
              </a:rPr>
              <a:t>http://www.krugosvet.r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http://ru.wikipedia.or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http://www.traktat.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http://ru.science.wikia.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05:39:46Z</dcterms:created>
  <dc:creator>студент</dc:creator>
  <dc:description/>
  <dc:language>en-US</dc:language>
  <cp:lastModifiedBy>Admin</cp:lastModifiedBy>
  <dcterms:modified xsi:type="dcterms:W3CDTF">2010-05-12T02:12:06Z</dcterms:modified>
  <cp:revision>4</cp:revision>
  <dc:subject/>
  <dc:title>СЛОЖНОЕ  ПРЕДЛОЖЕНИЕ</dc:title>
</cp:coreProperties>
</file>